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D11-9B9B-4172-BC8E-3E0EF213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A77-C8CD-4E47-9F7E-1B884F2D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7DD-BBF1-4179-ACDB-FA4ABAA8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478-7DDD-4D6A-A2AD-F65FEE39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B942-45D0-4CCE-8555-A20812A8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6E35-7EDB-44E8-8720-96E097B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81A6-2A23-48EF-A6D9-83ECC8BA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C867-13EC-4F98-8506-50E5FA6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D2E2-A42E-41E9-96D5-B67F19C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B3A8-3DD8-4232-BD1A-3B758915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599B-7DD8-4EA5-B2A8-E892893B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7E1-B9C3-47DC-B8D5-99DFF628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A804-8A07-453F-9060-1D630E8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665B-A3CE-46AC-AB30-723843C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F009-4BEB-4508-BBE3-B47213C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486-520C-4E1E-A3CF-59EF8F44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D9CE-C6D8-4A76-BD4F-4A76D7F3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E63-E988-4EAF-8850-66FD1E8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A32-A4FD-4F2E-BDD5-F4205B14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90A-E6ED-4106-A0A3-0488457F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036-CC3B-4333-AEB1-132C761C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E54-0E34-43DE-A6F3-54A2507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618-1C2F-4195-B017-46EB70E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A57-852D-4C51-880A-5FDA775D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073C-93E3-4521-9373-BAB1099B6DA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426B-06FF-402E-997B-27D7C28FB60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Times New Roman"/>
              </a:rPr>
              <a:t>Dividing Polynomial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e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1440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ing a polynomial by a mo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55440" y="1901880"/>
          <a:ext cx="5832720" cy="17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01880"/>
                    <a:ext cx="583272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7"/>
          <p:cNvGraphicFramePr/>
          <p:nvPr/>
        </p:nvGraphicFramePr>
        <p:xfrm>
          <a:off x="2590920" y="3733920"/>
          <a:ext cx="579096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733920"/>
                    <a:ext cx="57909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8"/>
          <p:cNvGraphicFramePr/>
          <p:nvPr/>
        </p:nvGraphicFramePr>
        <p:xfrm>
          <a:off x="2666880" y="5791320"/>
          <a:ext cx="359280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791320"/>
                    <a:ext cx="3592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9"/>
          <p:cNvSpPr/>
          <p:nvPr/>
        </p:nvSpPr>
        <p:spPr>
          <a:xfrm>
            <a:off x="3124080" y="5791320"/>
            <a:ext cx="3124440" cy="6858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2403360" y="3505320"/>
          <a:ext cx="616608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3505320"/>
                    <a:ext cx="61660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2560680" y="5737320"/>
          <a:ext cx="380664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0680" y="5737320"/>
                    <a:ext cx="3806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3048120" y="5715000"/>
            <a:ext cx="327636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79440" y="1211400"/>
          <a:ext cx="655488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440" y="1211400"/>
                    <a:ext cx="65548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3662280" y="3352680"/>
          <a:ext cx="364644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3352680"/>
                    <a:ext cx="364644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4479840" y="5562720"/>
          <a:ext cx="2467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5562720"/>
                    <a:ext cx="24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5"/>
          <p:cNvSpPr/>
          <p:nvPr/>
        </p:nvSpPr>
        <p:spPr>
          <a:xfrm>
            <a:off x="5029200" y="5486400"/>
            <a:ext cx="190512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650880" y="1211400"/>
          <a:ext cx="431316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880" y="1211400"/>
                    <a:ext cx="431316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Long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440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e a polynomial by a poly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16002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ink back to long division from 3rd grad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Example :  227 ÷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"/>
          <p:cNvSpPr/>
          <p:nvPr/>
        </p:nvSpPr>
        <p:spPr>
          <a:xfrm>
            <a:off x="3048120" y="3581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870200" y="2819520"/>
          <a:ext cx="49114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2819520"/>
                    <a:ext cx="4911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81280" y="213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394080" y="3625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082760" y="35719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3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505320" y="304812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114800" y="4267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038480" y="21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334120" y="42670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038480" y="4876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334120" y="48769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114800" y="563868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200400" y="441972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1320" y="5638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657600" y="4876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505320" y="2133720"/>
            <a:ext cx="1600200" cy="7617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9" name="Object 25"/>
          <p:cNvGraphicFramePr/>
          <p:nvPr/>
        </p:nvGraphicFramePr>
        <p:xfrm>
          <a:off x="174600" y="50760"/>
          <a:ext cx="442584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00" y="50760"/>
                    <a:ext cx="44258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26"/>
          <p:cNvSpPr/>
          <p:nvPr/>
        </p:nvSpPr>
        <p:spPr>
          <a:xfrm>
            <a:off x="4724280" y="434340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3"/>
          <p:cNvSpPr/>
          <p:nvPr/>
        </p:nvSpPr>
        <p:spPr>
          <a:xfrm>
            <a:off x="5410080" y="5181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3809880" y="4038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666880" y="2743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1585800" y="1981080"/>
          <a:ext cx="66931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981080"/>
                    <a:ext cx="66931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4"/>
          <p:cNvSpPr/>
          <p:nvPr/>
        </p:nvSpPr>
        <p:spPr>
          <a:xfrm>
            <a:off x="3048120" y="914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48120" y="28195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25720" y="2743200"/>
            <a:ext cx="15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276720" y="22096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62520" y="35053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73392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4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295960" y="342900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1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267080" y="4038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257800" y="4038480"/>
            <a:ext cx="17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6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267080" y="480060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2971800" y="358128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1320" y="4724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2971800" y="914400"/>
            <a:ext cx="5257800" cy="114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0" name="Object 22"/>
          <p:cNvGraphicFramePr/>
          <p:nvPr/>
        </p:nvGraphicFramePr>
        <p:xfrm>
          <a:off x="-50760" y="-111240"/>
          <a:ext cx="745812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0760" y="-111240"/>
                    <a:ext cx="745812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24"/>
          <p:cNvSpPr/>
          <p:nvPr/>
        </p:nvSpPr>
        <p:spPr>
          <a:xfrm>
            <a:off x="4648320" y="3581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6553080" y="47242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2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5105520" y="990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5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791320" y="5257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6629400" y="5257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5562720" y="601992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6019920" y="4724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934320" y="5943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8"/>
          <p:cNvGraphicFramePr/>
          <p:nvPr/>
        </p:nvGraphicFramePr>
        <p:xfrm>
          <a:off x="6172200" y="920880"/>
          <a:ext cx="1600200" cy="12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920880"/>
                    <a:ext cx="16002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6:09:46Z</dcterms:created>
  <dc:creator>HCPS</dc:creator>
  <dc:description/>
  <dc:language>en-US</dc:language>
  <cp:lastModifiedBy>Karen</cp:lastModifiedBy>
  <dcterms:modified xsi:type="dcterms:W3CDTF">2012-03-19T06:48:14Z</dcterms:modified>
  <cp:revision>43</cp:revision>
  <dc:subject/>
  <dc:title>No Slide Title</dc:title>
</cp:coreProperties>
</file>